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69F1-123F-4A35-957F-7BE0BD7C0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E666-7DEE-4AC8-8D46-34E22DECF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9AE1-4A00-41B5-AB75-40F019A8A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3722-98A9-45E5-AD97-9508F4B73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8887F-D148-48E5-8EC5-A359E0876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D7FCA-1B49-496A-BFDB-BD2FCC55F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12C1B-6396-4BFC-9350-BD2686A1A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9D78A-94B2-4B13-95A2-F17E7660B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5845A-067B-4384-833D-344E07BE8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6051F-102D-491B-BE2B-374A0E054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5CECB-D9D3-44EB-AF08-98A1B018D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AD13-F2DC-4541-84DC-3CBF11E48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29F39-E533-4DE5-A445-6DC65D2A4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002DB-2D9E-4CF2-A5D4-8DB22FF36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FA338-CA12-487B-8937-2D62D62FF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8B411-C9D9-461E-9B95-737BDC9F2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B5519-E121-45C0-87F1-3CD1D027D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44F7-D30D-4E45-AED5-DF1194132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23A6-EFBE-4222-A3C1-2952CC82E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E2E9-258B-4D07-A58A-1002E502D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FBE6-0202-4535-840B-0C5B6A2B1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4D38-E9A7-41D2-98FF-05972716A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10AD-1CC6-4E90-9C2A-12A933A03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55E3-9695-498D-8A02-E0B4B9F88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E0D55-C25F-4416-AF60-2ECBD369C33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9D68E-5B42-4DDC-B6B5-B1B1CBFBF0C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1035360"/>
            <a:ext cx="91440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r>
              <a:rPr b="0" lang="en-AU" sz="4300" spc="-1" strike="noStrike">
                <a:solidFill>
                  <a:srgbClr val="000000"/>
                </a:solidFill>
                <a:latin typeface="Arial Rounded MT Bold"/>
              </a:rPr>
              <a:t>Working with Under 18s</a:t>
            </a:r>
            <a:r>
              <a:rPr b="0" lang="en-AU" sz="5800" spc="-1" strike="noStrike">
                <a:solidFill>
                  <a:srgbClr val="999900"/>
                </a:solidFill>
                <a:latin typeface="Arial Rounded MT Bold"/>
              </a:rPr>
              <a:t> </a:t>
            </a:r>
            <a:br>
              <a:rPr sz="5800"/>
            </a:br>
            <a:br>
              <a:rPr sz="5800"/>
            </a:br>
            <a:r>
              <a:rPr b="0" lang="en-AU" sz="5200" spc="-1" strike="noStrike">
                <a:solidFill>
                  <a:srgbClr val="999900"/>
                </a:solidFill>
                <a:latin typeface="Arial Rounded MT Bold"/>
              </a:rPr>
              <a:t>What’s my role, then?  </a:t>
            </a:r>
            <a:br>
              <a:rPr sz="5200"/>
            </a:br>
            <a:r>
              <a:rPr b="0" lang="en-AU" sz="5200" spc="-1" strike="noStrike">
                <a:solidFill>
                  <a:srgbClr val="999900"/>
                </a:solidFill>
                <a:latin typeface="Arial Rounded MT Bold"/>
              </a:rPr>
              <a:t>What am I supposed to do?</a:t>
            </a:r>
            <a:endParaRPr b="0" lang="en-US" sz="5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10920" y="4076640"/>
            <a:ext cx="80643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 Rounded MT Bold"/>
              </a:rPr>
              <a:t>15</a:t>
            </a:r>
            <a:r>
              <a:rPr b="0" lang="en-AU" sz="2600" spc="-1" strike="noStrike" baseline="30000">
                <a:solidFill>
                  <a:srgbClr val="000000"/>
                </a:solidFill>
                <a:latin typeface="Arial Rounded MT Bold"/>
              </a:rPr>
              <a:t>th</a:t>
            </a:r>
            <a:r>
              <a:rPr b="0" lang="en-AU" sz="2600" spc="-1" strike="noStrike">
                <a:solidFill>
                  <a:srgbClr val="000000"/>
                </a:solidFill>
                <a:latin typeface="Arial Rounded MT Bold"/>
              </a:rPr>
              <a:t> ISANA Confere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 Rounded MT Bold"/>
              </a:rPr>
              <a:t>Pre-conference Workshop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 Rounded MT Bold"/>
              </a:rPr>
              <a:t>30 November 200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999900"/>
                </a:solidFill>
                <a:latin typeface="Arial Rounded MT Bold"/>
              </a:rPr>
              <a:t>Issues and Responsibilities</a:t>
            </a:r>
            <a:endParaRPr b="0" lang="en-US" sz="4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71640" y="1557000"/>
            <a:ext cx="7632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 Rounded MT Bold"/>
              </a:rPr>
              <a:t>Academic progr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 Rounded MT Bold"/>
              </a:rPr>
              <a:t>Accommod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 Rounded MT Bold"/>
              </a:rPr>
              <a:t>Attend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 Rounded MT Bold"/>
              </a:rPr>
              <a:t>Bank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 Rounded MT Bold"/>
              </a:rPr>
              <a:t>Budget and Finan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 Rounded MT Bold"/>
              </a:rPr>
              <a:t>Heal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 Rounded MT Bold"/>
              </a:rPr>
              <a:t>Seeing a doct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 Rounded MT Bold"/>
              </a:rPr>
              <a:t>Using their OSH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999900"/>
                </a:solidFill>
                <a:latin typeface="Arial Rounded MT Bold"/>
              </a:rPr>
              <a:t>Issues and Responsibilities</a:t>
            </a:r>
            <a:endParaRPr b="0" lang="en-US" sz="4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 Rounded MT Bold"/>
              </a:rPr>
              <a:t>Homesickn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 Rounded MT Bold"/>
              </a:rPr>
              <a:t>Study patterns and timeta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 Rounded MT Bold"/>
              </a:rPr>
              <a:t>Transport options and regul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 Rounded MT Bold"/>
              </a:rPr>
              <a:t>Work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 Rounded MT Bold"/>
              </a:rPr>
              <a:t>Overall Bal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999900"/>
                </a:solidFill>
                <a:latin typeface="Arial Rounded MT Bold"/>
              </a:rPr>
              <a:t>The Main Stakeholders in Caring for Students under 18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 Rounded MT Bold"/>
              </a:rPr>
              <a:t>The Education Provide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 Rounded MT Bold"/>
              </a:rPr>
              <a:t>The Accommodation Provide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 Rounded MT Bold"/>
              </a:rPr>
              <a:t>The Welfare Superviso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 Rounded MT Bold"/>
              </a:rPr>
              <a:t>The Stud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999900"/>
                </a:solidFill>
                <a:latin typeface="Arial Rounded MT Bold"/>
              </a:rPr>
              <a:t>Terminology</a:t>
            </a:r>
            <a:endParaRPr b="0" lang="en-US" sz="4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 Rounded MT Bold"/>
              </a:rPr>
              <a:t>Guardia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 Rounded MT Bold"/>
              </a:rPr>
              <a:t>Care Provide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 Rounded MT Bold"/>
              </a:rPr>
              <a:t>Care-give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 Rounded MT Bold"/>
              </a:rPr>
              <a:t>Care Superviso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 Rounded MT Bold"/>
              </a:rPr>
              <a:t>Welfare supervisor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999900"/>
                </a:solidFill>
                <a:latin typeface="Arial Rounded MT Bold"/>
              </a:rPr>
              <a:t>The Education Provider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9280" y="1699920"/>
            <a:ext cx="836316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 Rounded MT Bold"/>
              </a:rPr>
              <a:t>CAA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 Rounded MT Bold"/>
              </a:rPr>
              <a:t>Cour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 Rounded MT Bold"/>
              </a:rPr>
              <a:t>Orient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 Rounded MT Bold"/>
              </a:rPr>
              <a:t>Excursion permis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 Rounded MT Bold"/>
              </a:rPr>
              <a:t>Academic repor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 Rounded MT Bold"/>
              </a:rPr>
              <a:t>Attendance Reco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 Rounded MT Bold"/>
              </a:rPr>
              <a:t>Notify Welfare Supervis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 Rounded MT Bold"/>
              </a:rPr>
              <a:t>Warning lett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 Rounded MT Bold"/>
              </a:rPr>
              <a:t>Counselling serv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 Rounded MT Bold"/>
              </a:rPr>
              <a:t>Range of help and assistance avail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999900"/>
                </a:solidFill>
                <a:latin typeface="Arial Rounded MT Bold"/>
              </a:rPr>
              <a:t>The Accommodation Provider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 Rounded MT Bold"/>
              </a:rPr>
              <a:t>Bedroom +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 Rounded MT Bold"/>
              </a:rPr>
              <a:t>Me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 Rounded MT Bold"/>
              </a:rPr>
              <a:t>Bath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 Rounded MT Bold"/>
              </a:rPr>
              <a:t>Laund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 Rounded MT Bold"/>
              </a:rPr>
              <a:t>Familiarisation with local area, transp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 Rounded MT Bold"/>
              </a:rPr>
              <a:t>Shows student to and from institu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 Rounded MT Bold"/>
              </a:rPr>
              <a:t>Heal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999900"/>
                </a:solidFill>
                <a:latin typeface="Arial Rounded MT Bold"/>
              </a:rPr>
              <a:t>The Accommodation Provider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 Rounded MT Bold"/>
              </a:rPr>
              <a:t>Welfare arrangement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 Rounded MT Bold"/>
              </a:rPr>
              <a:t>Eating, sleeping patter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 Rounded MT Bold"/>
              </a:rPr>
              <a:t>Study times and habi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 Rounded MT Bold"/>
              </a:rPr>
              <a:t>Neat, clean, conforms to school regulations/ expect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 Rounded MT Bold"/>
              </a:rPr>
              <a:t>Punctua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 Rounded MT Bold"/>
              </a:rPr>
              <a:t>House ru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 Rounded MT Bold"/>
              </a:rPr>
              <a:t>Overnight outing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 Rounded MT Bold"/>
              </a:rPr>
              <a:t>Report concer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 Rounded MT Bold"/>
              </a:rPr>
              <a:t>Alternative arrange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999900"/>
                </a:solidFill>
                <a:latin typeface="Arial Rounded MT Bold"/>
              </a:rPr>
              <a:t>Welfare Supervisor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43588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000000"/>
                </a:solidFill>
                <a:latin typeface="Arial Rounded MT Bold"/>
              </a:rPr>
              <a:t>In loco parent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 Rounded MT Bold"/>
              </a:rPr>
              <a:t>Monitors  social, academic, physical and emotional welf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 Rounded MT Bold"/>
              </a:rPr>
              <a:t>P/T Interview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 Rounded MT Bold"/>
              </a:rPr>
              <a:t>Local law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 Rounded MT Bold"/>
              </a:rPr>
              <a:t>Smok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 Rounded MT Bold"/>
              </a:rPr>
              <a:t>Drug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 Rounded MT Bold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 Rounded MT Bold"/>
              </a:rPr>
              <a:t>Travel Concess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 Rounded MT Bold"/>
              </a:rPr>
              <a:t>Driv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 Rounded MT Bold"/>
              </a:rPr>
              <a:t>Conditions of Student Vis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 Rounded MT Bold"/>
              </a:rPr>
              <a:t>Phone, bank accou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999900"/>
                </a:solidFill>
                <a:latin typeface="Arial Rounded MT Bold"/>
              </a:rPr>
              <a:t>Welfare Supervisor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5280" y="1457280"/>
            <a:ext cx="8748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 Rounded MT Bold"/>
              </a:rPr>
              <a:t>Respon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 Rounded MT Bold"/>
              </a:rPr>
              <a:t>Accommod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 Rounded MT Bold"/>
              </a:rPr>
              <a:t>Emerge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 Rounded MT Bold"/>
              </a:rPr>
              <a:t>Alternative holiday arrang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 Rounded MT Bold"/>
              </a:rPr>
              <a:t>Travel arrang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 Rounded MT Bold"/>
              </a:rPr>
              <a:t>Rep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 u="sng">
                <a:solidFill>
                  <a:srgbClr val="000000"/>
                </a:solidFill>
                <a:uFillTx/>
                <a:latin typeface="Arial Rounded MT Bold"/>
              </a:rPr>
              <a:t>BE AVAILABLE 24 HOURS A DAY, 7 DAYS A WEE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999900"/>
                </a:solidFill>
                <a:latin typeface="Arial Rounded MT Bold"/>
              </a:rPr>
              <a:t>The Studen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6043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Rounded MT Bold"/>
              </a:rPr>
              <a:t>The conditions of the Student Vis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Rounded MT Bold"/>
              </a:rPr>
              <a:t>Demonstrate priority for studies at all tim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Rounded MT Bold"/>
              </a:rPr>
              <a:t>Maximise attend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 Rounded MT Bold"/>
              </a:rPr>
              <a:t>Show respect and courtesy for accommodation provid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 Rounded MT Bold"/>
              </a:rPr>
              <a:t>Instigate occasional contact with Welfare Supervis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 Rounded MT Bold"/>
              </a:rPr>
              <a:t>Share succes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 Rounded MT Bold"/>
              </a:rPr>
              <a:t>Discuss proble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 Rounded MT Bold"/>
              </a:rPr>
              <a:t>Returning homes for holiday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 Rounded MT Bold"/>
              </a:rPr>
              <a:t>P/T Interview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 Rounded MT Bold"/>
              </a:rPr>
              <a:t>Overnight stay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7T04:15:28Z</dcterms:created>
  <dc:creator>myname</dc:creator>
  <dc:description/>
  <dc:language>en-US</dc:language>
  <cp:lastModifiedBy>myname</cp:lastModifiedBy>
  <dcterms:modified xsi:type="dcterms:W3CDTF">2004-12-09T05:31:16Z</dcterms:modified>
  <cp:revision>27</cp:revision>
  <dc:subject/>
  <dc:title>Slide 1</dc:title>
</cp:coreProperties>
</file>