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9C1-9B4A-4CB7-B5C1-21BAB3C7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151-D7A7-43BC-B09E-87544F05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1FD-DD11-484C-B289-4ECF066D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C8C-E434-454F-8A03-8404903F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83A3-4417-403F-B297-9B7082D8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A50A-5EC7-402E-A062-4B116044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9A2B-426C-497D-995C-AE0678B8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DE2C-BD5F-4B84-83C0-A2EDFF8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00D9-A4B3-4FFF-A11E-D2C65ABE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1E3C-EC07-4674-A124-E26A00F8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90F4-536D-4A52-BE62-7D8BF6D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FF1-237E-40E2-9FF8-EE9010F2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41C8-8CF5-44D5-A5C3-9475A40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2470-0069-4E6E-A34D-F8D13E10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CDFE-DD47-440E-894F-EC3B1C7D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7073-7F69-4A64-A38C-5586DBC9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1560-633F-4C82-A10F-4E68367D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14B-48C6-4E16-AF29-7D7E8054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960-F7A2-4C72-89B2-DF71B9C4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0D6-7E45-46A1-8331-560A0735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84D-B6AF-4B04-B1C6-1302BBDB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5AF-3D24-42BE-88A8-175288D9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DEE-508C-43D1-8ABE-16C10470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F91-2E77-4DD9-811D-E5BF197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12E9-BFE0-4F3E-A940-21683186A2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16B-6F12-43BD-8609-761B75CAF2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103536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AU" sz="4300" spc="-1" strike="noStrike">
                <a:solidFill>
                  <a:srgbClr val="000000"/>
                </a:solidFill>
                <a:latin typeface="Arial Rounded MT Bold"/>
              </a:rPr>
              <a:t>Working with Under 18s</a:t>
            </a:r>
            <a:r>
              <a:rPr b="0" lang="en-AU" sz="5800" spc="-1" strike="noStrike">
                <a:solidFill>
                  <a:srgbClr val="999900"/>
                </a:solidFill>
                <a:latin typeface="Arial Rounded MT Bold"/>
              </a:rPr>
              <a:t> </a:t>
            </a:r>
            <a:br>
              <a:rPr sz="5800"/>
            </a:br>
            <a:br>
              <a:rPr sz="5800"/>
            </a:br>
            <a:r>
              <a:rPr b="0" lang="en-AU" sz="5200" spc="-1" strike="noStrike">
                <a:solidFill>
                  <a:srgbClr val="999900"/>
                </a:solidFill>
                <a:latin typeface="Arial Rounded MT Bold"/>
              </a:rPr>
              <a:t>What’s my role, then?  </a:t>
            </a:r>
            <a:br>
              <a:rPr sz="5200"/>
            </a:br>
            <a:r>
              <a:rPr b="0" lang="en-AU" sz="5200" spc="-1" strike="noStrike">
                <a:solidFill>
                  <a:srgbClr val="999900"/>
                </a:solidFill>
                <a:latin typeface="Arial Rounded MT Bold"/>
              </a:rPr>
              <a:t>What am I supposed to do?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0920" y="4076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Rounded MT Bold"/>
              </a:rPr>
              <a:t>15</a:t>
            </a:r>
            <a:r>
              <a:rPr b="0" lang="en-AU" sz="2600" spc="-1" strike="noStrike" baseline="30000">
                <a:solidFill>
                  <a:srgbClr val="000000"/>
                </a:solidFill>
                <a:latin typeface="Arial Rounded MT Bold"/>
              </a:rPr>
              <a:t>th</a:t>
            </a:r>
            <a:r>
              <a:rPr b="0" lang="en-AU" sz="2600" spc="-1" strike="noStrike">
                <a:solidFill>
                  <a:srgbClr val="000000"/>
                </a:solidFill>
                <a:latin typeface="Arial Rounded MT Bold"/>
              </a:rPr>
              <a:t> ISANA Confe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Rounded MT Bold"/>
              </a:rPr>
              <a:t>Pre-conference Workshop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Rounded MT Bold"/>
              </a:rPr>
              <a:t>30 November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9900"/>
                </a:solidFill>
                <a:latin typeface="Arial Rounded MT Bold"/>
              </a:rPr>
              <a:t>Issues and Responsibilitie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63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cademic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ccommo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Budget and Fin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Seeing a do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Using their OSH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9900"/>
                </a:solidFill>
                <a:latin typeface="Arial Rounded MT Bold"/>
              </a:rPr>
              <a:t>Issues and Responsibilitie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Homesick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Study patterns and time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Transport options and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Wor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Overall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9900"/>
                </a:solidFill>
                <a:latin typeface="Arial Rounded MT Bold"/>
              </a:rPr>
              <a:t>The Main Stakeholders in Caring for Students under 18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Rounded MT Bold"/>
              </a:rPr>
              <a:t>The Education Provid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Rounded MT Bold"/>
              </a:rPr>
              <a:t>The Accommodation Provid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Rounded MT Bold"/>
              </a:rPr>
              <a:t>The Welfare Supervis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Rounded MT Bold"/>
              </a:rPr>
              <a:t>The Stud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9900"/>
                </a:solidFill>
                <a:latin typeface="Arial Rounded MT Bold"/>
              </a:rPr>
              <a:t>Terminology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Rounded MT Bold"/>
              </a:rPr>
              <a:t>Guardi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Rounded MT Bold"/>
              </a:rPr>
              <a:t>Care Provid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Rounded MT Bold"/>
              </a:rPr>
              <a:t>Care-giv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Rounded MT Bold"/>
              </a:rPr>
              <a:t>Care Supervis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 Rounded MT Bold"/>
              </a:rPr>
              <a:t>Welfare superviso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Arial Rounded MT Bold"/>
              </a:rPr>
              <a:t>The Education Provid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363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CA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Ori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Excursion per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Academic rep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Attendance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Notify Welfare Supervi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Warning le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Counselling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Range of help and assistance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Arial Rounded MT Bold"/>
              </a:rPr>
              <a:t>The Accommodation Provider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Bedroom 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Me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Ba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Laund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Familiarisation with local area,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Shows student to and from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00"/>
                </a:solidFill>
                <a:latin typeface="Arial Rounded MT Bold"/>
              </a:rPr>
              <a:t>The Accommodation Provider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Welfare arrangeme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Eating, sleeping patt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Study times and hab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Neat, clean, conforms to school regulations/ expec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Punct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House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Overnight ou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Report 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Alternative arrang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Arial Rounded MT Bold"/>
              </a:rPr>
              <a:t>Welfare Supervis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 Rounded MT Bold"/>
              </a:rPr>
              <a:t>In loco parent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Monitors  social, academic, physical and emotion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P/T Inter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Local law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Smo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Dr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Travel Conc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Dr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Conditions of Student Vi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Rounded MT Bold"/>
              </a:rPr>
              <a:t>Phone, bank acc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Arial Rounded MT Bold"/>
              </a:rPr>
              <a:t>Welfare Supervis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5728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Resp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ccommo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Emer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Alternative holiday arrang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Travel arrang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 Rounded MT Bold"/>
              </a:rPr>
              <a:t>BE AVAILABLE 24 HOURS A DAY, 7 DAYS A WEE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9900"/>
                </a:solidFill>
                <a:latin typeface="Arial Rounded MT Bold"/>
              </a:rPr>
              <a:t>The Stud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60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Rounded MT Bold"/>
              </a:rPr>
              <a:t>The conditions of the Student Vi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Rounded MT Bold"/>
              </a:rPr>
              <a:t>Demonstrate priority for studies at all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Rounded MT Bold"/>
              </a:rPr>
              <a:t>Maximise at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Show respect and courtesy for accommoda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Instigate occasional contact with Welfare Super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Share suc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Discuss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Returning homes for holi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P/T Inter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Rounded MT Bold"/>
              </a:rPr>
              <a:t>Overnight st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4:15:28Z</dcterms:created>
  <dc:creator>myname</dc:creator>
  <dc:description/>
  <dc:language>en-US</dc:language>
  <cp:lastModifiedBy>myname</cp:lastModifiedBy>
  <dcterms:modified xsi:type="dcterms:W3CDTF">2004-12-09T05:31:16Z</dcterms:modified>
  <cp:revision>27</cp:revision>
  <dc:subject/>
  <dc:title>Slide 1</dc:title>
</cp:coreProperties>
</file>